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0A209-78AF-40D0-9313-452AB9A21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28952-97B4-4A7F-B7AB-E923ED6B2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B275D-E937-416C-A82C-F52F0E1F7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F6DD6-583C-4793-9A95-31181DB80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01B8C-17DA-4BE5-9CAC-C18EE3389E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FAA2B-E78B-45A0-8591-39C9F82C6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35D27-F254-41DE-92E3-96654196E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A0A7B-6A48-45C4-A2AB-9E1AAB30D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F0BCF-ADBB-463D-84CA-8B2723AED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24998-3760-48F2-9FE1-5D58F40AF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C9704-941C-4691-AE93-A7CB976FB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591B1-B7BE-4AE9-BCAE-59A8B85F6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73F6-EF08-41D6-A850-E81CD44E7F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Introduction to Shakespea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5257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his Most Important Works</a:t>
            </a:r>
            <a:endParaRPr b="0" lang="en-US" sz="3200" spc="-1" strike="noStrike">
              <a:solidFill>
                <a:srgbClr val="000000"/>
              </a:solidFill>
              <a:latin typeface="Arial"/>
            </a:endParaRPr>
          </a:p>
        </p:txBody>
      </p:sp>
      <p:pic>
        <p:nvPicPr>
          <p:cNvPr id="43" name="" descr=""/>
          <p:cNvPicPr/>
          <p:nvPr/>
        </p:nvPicPr>
        <p:blipFill>
          <a:blip r:embed="rId1"/>
          <a:stretch/>
        </p:blipFill>
        <p:spPr>
          <a:xfrm>
            <a:off x="2666880" y="1447920"/>
            <a:ext cx="3829320" cy="3800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ch Ado about Nothing:</a:t>
            </a:r>
            <a:br>
              <a:rPr sz="4000"/>
            </a:br>
            <a:r>
              <a:rPr b="0" lang="en-US" sz="4000" spc="-1" strike="noStrike">
                <a:solidFill>
                  <a:srgbClr val="000000"/>
                </a:solidFill>
                <a:latin typeface="Arial"/>
              </a:rPr>
              <a:t>A Synopsi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Messina, a messenger brings news that Don Pedro, a Spanish prince from Aragon, and his officers, Claudio and Benedick, have returned from a successful battle. Leonato, the governor of Messina, welcomes the messenger and announces that Don Pedro and his men will stay for a month. Beatrice, Leonato's niece, asks the messenger about Benedick, and makes sarcastic remarks about his ineptitude as a soldier. Leonato explains that "There is a kind of merry war betwixt Signior Benedick and h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trice and Benedick, longtime adversaries, carry on their arguments. Claudio’s feelings for Hero, Leonato's only daughter, are rekindled upon seeing her, and Claudio soon announces to Benedick his intention to court her. Benedick tries to dissuade his friend but is unsuccessful in the face of Don Pedro’s encouragement. While Benedick teases Claudio, Benedick swears that he will never get married. Don Pedro laughs at him and tells him that when he has found the right person he shall get marri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squerade ball is planned in celebration, giving a disguised Don Pedro the opportunity to woo Hero on Claudio’s behalf. Don John uses this situation to get revenge on his brother Don Pedro by telling young Claudio that Don Pedro is wooing Hero for himself. Claudio becomes furious at Don Pedro and confronts him. The misunderstanding is quickly resolved and Claudio wins Hero's hand in marriag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e read this play?</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estly, because it’s awesome.  But seriously, this is by far the most humorous of Shakespeare’s plays and we read this to instill the fact that this was low brow at the time and not at all for the the rich of the rich in London at th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e look for in this play:</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or.  Realizing that Skakespeare wrote for the people is a huge concept to gra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get out of Shakespear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langu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hum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tail in descri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pular culture of the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He’s Aweso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Works we will be going over</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eo and Juli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idsummer Night’s Dre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Ado About N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meo and Juliet: Synopsi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in Vero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y starts out with a brawl between the Moantagues and the Capaulets and their follow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families are sworn enem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ory: Con’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eo and Juliet are from either of these families and fall in a forbidden and fatal lov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this play importan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meo and Juliet became Shakespeare’s most influential work throughout the ages.  The story of forbidden love has been used in millions of stories since t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look for in this play?</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trast between the two famil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Shakespeare’s language, particularly in the description of the two lov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rama that Shakespeare uses to conclude the final scene and how he set’s it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idsummer Night’s Dream: Synopsi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lay features three interlocking plots, connected by a celebration of the wedding of Duke </a:t>
            </a:r>
            <a:r>
              <a:rPr b="0" lang="en-US" sz="3200" spc="-1" strike="noStrike" u="sng">
                <a:solidFill>
                  <a:srgbClr val="000000"/>
                </a:solidFill>
                <a:uFillTx/>
                <a:latin typeface="Arial"/>
              </a:rPr>
              <a:t>Thesus</a:t>
            </a:r>
            <a:r>
              <a:rPr b="0" lang="en-US" sz="3200" spc="-1" strike="noStrike">
                <a:solidFill>
                  <a:srgbClr val="000000"/>
                </a:solidFill>
                <a:latin typeface="Arial"/>
              </a:rPr>
              <a:t> of Athens and the Amazonian queen,Hippolyta, and set simultaneously in the woodland, and in the realm of Fairyland, under the light of the m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this play important?</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lays mythological creatures set up not only Shakespeare’s future plays but many of the plays of this poetic era and the next poetic e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look for in this play?</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tch the sexuality of this play.  What do you notice?  Do you think this is normal for this day and er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about how Shakespeare addresses women and feminity? Is this uniq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7T14:06:07Z</dcterms:created>
  <dc:creator>Dell</dc:creator>
  <dc:description/>
  <dc:language>en-US</dc:language>
  <cp:lastModifiedBy>Dell</cp:lastModifiedBy>
  <dcterms:modified xsi:type="dcterms:W3CDTF">2011-04-27T14:24:32Z</dcterms:modified>
  <cp:revision>3</cp:revision>
  <dc:subject/>
  <dc:title>Introduction to Shakespeare:</dc:title>
</cp:coreProperties>
</file>